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4E27-E863-4E37-B8E2-E513B3944CDF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AB05-6712-42F5-9741-7431D13BEFB3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C219-3013-47D9-93F5-C1C0D1A3002A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F60E-C04A-4AE8-A10A-74DFB45AD459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4206-F56A-4450-919E-E0ADC4BEBBA7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2320-4ED7-488B-85AB-BDCB6ED8CD84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äivämäärän paikkamerkki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Alatunnisteen paikkamerkki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Dian numeron paikkamerkki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0EB5-FE87-4C97-BA6D-ACC1FAB8989E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28F-251F-4CD3-96D8-58F6E2E3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959-D7A5-4FC5-9C98-9A8581E4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AB6D-769A-4935-87AF-90C00B9E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BDC-21DC-4BBA-8502-4C3C7385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6505-A09B-4C7A-BB46-886F0DA6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7865-6D41-4881-A8F7-A0AF16F4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2160-C315-40BE-BC29-F5CE4712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5525-46D5-4325-A3DC-1A84AFEE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574C-F9FC-4B1A-94BA-C4E3AEE0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8FBA-D14B-45B6-94EB-4F22CA64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4521-BDAD-48DC-9EE5-FABCCC6A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B29-8CBA-4B41-96EC-2C8869EB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CF01-F8E2-4EC5-AB6A-058B5166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C777-ADEE-4BD2-B169-91FEE3CE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E692-6783-47F2-8812-2DD52776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9A06-5A07-4542-8A19-8C649F1E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41D6-B526-45B5-9F34-D1407B03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426E-7D12-4196-A68E-B42AA4DD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1D9D8-F223-42B7-859D-7BE05827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8A6AE-2BA6-4881-8E34-4A11A09C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CBF83-5496-4816-9E32-32989C10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12DAF-6A44-4E51-918A-88C6A419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C51-E38F-40E7-A4D4-7C8B36B5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A8954-FBF7-4B29-9881-59595205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FB56-12D8-4859-8963-3D51D8A1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D2A5-A485-4A1D-821D-71FB5EA3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612E2-9AC1-479B-9058-455DE728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59E44-B11F-4806-A344-3F74E405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BF5B-7414-43FA-9E31-8DD76C8E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83896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20720" y="19998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83896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220720" y="4239000"/>
            <a:ext cx="22680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BC17F-8F6E-4AE1-BBB5-7FD07182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2BE-8AFD-442B-96D5-34270CF6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532-C1D7-405A-AD92-78D47BDA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46B-C265-423A-A9BE-E9AB7F47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F37-546D-4B3E-827E-F4313F22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66560" y="42390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B99-55ED-4508-9186-2CCB3A7A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66560" y="1999800"/>
            <a:ext cx="34372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70437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FF1-F916-44F6-86FD-6FA87ADE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D42F-2055-457F-B308-993CB26171CB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Kuva 6" descr="Ymk_Fin_RGB_png_50572.png"/>
          <p:cNvPicPr/>
          <p:nvPr/>
        </p:nvPicPr>
        <p:blipFill>
          <a:blip r:embed="rId2"/>
          <a:srcRect l="-16645" t="-59496" r="-6654" b="0"/>
          <a:stretch/>
        </p:blipFill>
        <p:spPr>
          <a:xfrm>
            <a:off x="0" y="0"/>
            <a:ext cx="2643120" cy="765000"/>
          </a:xfrm>
          <a:prstGeom prst="rect">
            <a:avLst/>
          </a:prstGeom>
          <a:ln w="0">
            <a:noFill/>
          </a:ln>
        </p:spPr>
      </p:pic>
      <p:pic>
        <p:nvPicPr>
          <p:cNvPr id="6" name="Kuva 7" descr="YMK-logo_rgb.jpg"/>
          <p:cNvPicPr/>
          <p:nvPr/>
        </p:nvPicPr>
        <p:blipFill>
          <a:blip r:embed="rId3"/>
          <a:srcRect l="0" t="0" r="9446" b="14074"/>
          <a:stretch/>
        </p:blipFill>
        <p:spPr>
          <a:xfrm>
            <a:off x="7400880" y="5214960"/>
            <a:ext cx="1743120" cy="16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uva 8" descr="Ymk_Fin_RGB_png_50572.png"/>
          <p:cNvPicPr/>
          <p:nvPr/>
        </p:nvPicPr>
        <p:blipFill>
          <a:blip r:embed="rId2"/>
          <a:srcRect l="-16645" t="-59496" r="-6654" b="0"/>
          <a:stretch/>
        </p:blipFill>
        <p:spPr>
          <a:xfrm>
            <a:off x="0" y="0"/>
            <a:ext cx="2643120" cy="76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467A-6211-41AC-BB5E-1BBB8D346F9A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999800"/>
            <a:ext cx="704376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8568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04CC-05A6-49D8-84E4-60A42F7B3B95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60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fa71f"/>
                </a:solidFill>
                <a:latin typeface="Arial"/>
              </a:rPr>
              <a:t>Petteri Huuska, ympäristösuunnittel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fa71f"/>
                </a:solidFill>
                <a:latin typeface="Arial"/>
              </a:rPr>
              <a:t>Petteri.huuska@hel.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618920" y="7920"/>
            <a:ext cx="7635960" cy="27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Helsingin energiarenessanssi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Kuvahaun tulos haulle järva hållbara"/>
          <p:cNvPicPr/>
          <p:nvPr/>
        </p:nvPicPr>
        <p:blipFill>
          <a:blip r:embed="rId1"/>
          <a:stretch/>
        </p:blipFill>
        <p:spPr>
          <a:xfrm>
            <a:off x="900000" y="1386000"/>
            <a:ext cx="6667560" cy="44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Helsingin energia- ja ilmastotavoitteet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000"/>
            <a:ext cx="851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elsingin KHK-päästöt -30 % 2020 (nyt -2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iilineutraali Helsinki vuonna 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älitavoite 2030 valmistelussa ilmastotyöryhmäll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elsinkiläisten energiankulutus -20%/as 2005-2020 (-1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usiutuvan energian osuus 20 %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FBD0-48F5-41A2-ADD1-CC672DC96EDB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ian numeron paikkamerkki 5"/>
          <p:cNvSpPr/>
          <p:nvPr/>
        </p:nvSpPr>
        <p:spPr>
          <a:xfrm>
            <a:off x="758880" y="6002280"/>
            <a:ext cx="18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bfbfbf"/>
                </a:solidFill>
                <a:latin typeface="Arial"/>
                <a:ea typeface="Arial"/>
              </a:rPr>
              <a:t>Photo: Rhinoceero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Kaavio 9" descr=""/>
          <p:cNvPicPr/>
          <p:nvPr/>
        </p:nvPicPr>
        <p:blipFill>
          <a:blip r:embed="rId1"/>
          <a:stretch/>
        </p:blipFill>
        <p:spPr>
          <a:xfrm>
            <a:off x="262080" y="3560760"/>
            <a:ext cx="5321160" cy="27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62280" y="-12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Päästöjen jakauma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999800"/>
            <a:ext cx="7043760" cy="4286520"/>
          </a:xfrm>
          <a:prstGeom prst="rect">
            <a:avLst/>
          </a:prstGeom>
          <a:ln w="0">
            <a:noFill/>
          </a:ln>
        </p:spPr>
      </p:pic>
      <p:sp>
        <p:nvSpPr>
          <p:cNvPr id="146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A6CE-8B2F-4CED-930D-00DE08E243C4}" type="slidenum">
              <a:rPr b="0" lang="fi-FI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Kaavio 13" descr=""/>
          <p:cNvPicPr/>
          <p:nvPr/>
        </p:nvPicPr>
        <p:blipFill>
          <a:blip r:embed="rId2"/>
          <a:stretch/>
        </p:blipFill>
        <p:spPr>
          <a:xfrm>
            <a:off x="1109520" y="755640"/>
            <a:ext cx="7448760" cy="545616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61"/>
          <p:cNvGrpSpPr/>
          <p:nvPr/>
        </p:nvGrpSpPr>
        <p:grpSpPr>
          <a:xfrm>
            <a:off x="6877080" y="2205000"/>
            <a:ext cx="2411280" cy="1882440"/>
            <a:chOff x="6877080" y="2205000"/>
            <a:chExt cx="2411280" cy="1882440"/>
          </a:xfrm>
        </p:grpSpPr>
        <p:sp>
          <p:nvSpPr>
            <p:cNvPr id="149" name="TextBox 17"/>
            <p:cNvSpPr/>
            <p:nvPr/>
          </p:nvSpPr>
          <p:spPr>
            <a:xfrm>
              <a:off x="7021080" y="2205000"/>
              <a:ext cx="2267280" cy="18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Liikkumin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Kaukolämmity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rillislämmity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ähkölämmity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Kulutussähkö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Yhdyskuntajättee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6877080" y="2349000"/>
              <a:ext cx="144000" cy="144000"/>
            </a:xfrm>
            <a:prstGeom prst="rect">
              <a:avLst/>
            </a:prstGeom>
            <a:solidFill>
              <a:srgbClr val="bd4089"/>
            </a:solidFill>
            <a:ln w="9360">
              <a:solidFill>
                <a:srgbClr val="bd40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20"/>
            <p:cNvSpPr/>
            <p:nvPr/>
          </p:nvSpPr>
          <p:spPr>
            <a:xfrm>
              <a:off x="6877080" y="2651760"/>
              <a:ext cx="144000" cy="144000"/>
            </a:xfrm>
            <a:prstGeom prst="rect">
              <a:avLst/>
            </a:prstGeom>
            <a:solidFill>
              <a:srgbClr val="2082c7"/>
            </a:solidFill>
            <a:ln w="9360">
              <a:solidFill>
                <a:srgbClr val="2082c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21"/>
            <p:cNvSpPr/>
            <p:nvPr/>
          </p:nvSpPr>
          <p:spPr>
            <a:xfrm>
              <a:off x="6877080" y="2954520"/>
              <a:ext cx="144000" cy="144000"/>
            </a:xfrm>
            <a:prstGeom prst="rect">
              <a:avLst/>
            </a:prstGeom>
            <a:solidFill>
              <a:srgbClr val="e67d26"/>
            </a:solidFill>
            <a:ln w="9360">
              <a:solidFill>
                <a:srgbClr val="e67d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ectangle 22"/>
            <p:cNvSpPr/>
            <p:nvPr/>
          </p:nvSpPr>
          <p:spPr>
            <a:xfrm>
              <a:off x="6877080" y="3257280"/>
              <a:ext cx="144000" cy="144000"/>
            </a:xfrm>
            <a:prstGeom prst="rect">
              <a:avLst/>
            </a:prstGeom>
            <a:solidFill>
              <a:srgbClr val="5f377e"/>
            </a:solidFill>
            <a:ln w="9360">
              <a:solidFill>
                <a:srgbClr val="5f37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Rectangle 23"/>
            <p:cNvSpPr/>
            <p:nvPr/>
          </p:nvSpPr>
          <p:spPr>
            <a:xfrm>
              <a:off x="6877080" y="3560040"/>
              <a:ext cx="144000" cy="144000"/>
            </a:xfrm>
            <a:prstGeom prst="rect">
              <a:avLst/>
            </a:prstGeom>
            <a:solidFill>
              <a:srgbClr val="8eba3f"/>
            </a:solidFill>
            <a:ln w="9360">
              <a:solidFill>
                <a:srgbClr val="8eba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24"/>
            <p:cNvSpPr/>
            <p:nvPr/>
          </p:nvSpPr>
          <p:spPr>
            <a:xfrm>
              <a:off x="6877080" y="3862800"/>
              <a:ext cx="144360" cy="14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540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Tekstiruutu 23"/>
          <p:cNvSpPr/>
          <p:nvPr/>
        </p:nvSpPr>
        <p:spPr>
          <a:xfrm>
            <a:off x="1251000" y="5516640"/>
            <a:ext cx="252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MS PGothic"/>
              </a:rPr>
              <a:t>Teollisu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kstiruutu 24"/>
          <p:cNvSpPr/>
          <p:nvPr/>
        </p:nvSpPr>
        <p:spPr>
          <a:xfrm>
            <a:off x="2771640" y="5516640"/>
            <a:ext cx="153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MS PGothic"/>
              </a:rPr>
              <a:t>Kotitaloud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kstiruutu 25"/>
          <p:cNvSpPr/>
          <p:nvPr/>
        </p:nvSpPr>
        <p:spPr>
          <a:xfrm>
            <a:off x="4302000" y="5516640"/>
            <a:ext cx="1935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MS PGothic"/>
              </a:rPr>
              <a:t>Palvelut ja työpaikat (pl. kaupung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kstiruutu 26"/>
          <p:cNvSpPr/>
          <p:nvPr/>
        </p:nvSpPr>
        <p:spPr>
          <a:xfrm>
            <a:off x="5916600" y="5521320"/>
            <a:ext cx="2489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MS PGothic"/>
              </a:rPr>
              <a:t>Kaupungin palvelurakennukset ja joukkoliik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kstiruutu 27"/>
          <p:cNvSpPr/>
          <p:nvPr/>
        </p:nvSpPr>
        <p:spPr>
          <a:xfrm>
            <a:off x="4994280" y="6515280"/>
            <a:ext cx="4054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  <a:ea typeface="MS PGothic"/>
              </a:rPr>
              <a:t>Päästöt 2015 yht. 2650 kt CO</a:t>
            </a:r>
            <a:r>
              <a:rPr b="0" lang="fi-FI" sz="16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  <a:ea typeface="MS PGothic"/>
              </a:rPr>
              <a:t>-ekv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71640" y="334800"/>
            <a:ext cx="77724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Helsingin rakennuskanta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3640" y="836280"/>
            <a:ext cx="8515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elsinki kerrostalovaltainen         Puolet rakennettu1960-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upunki omistaa pienen osan           60-luku kuluttaa en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26FE-7E69-4C7F-876B-B135CC60DBBD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ian numeron paikkamerkki 5"/>
          <p:cNvSpPr/>
          <p:nvPr/>
        </p:nvSpPr>
        <p:spPr>
          <a:xfrm>
            <a:off x="758880" y="6002280"/>
            <a:ext cx="18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bfbfbf"/>
                </a:solidFill>
                <a:latin typeface="Arial"/>
                <a:ea typeface="Arial"/>
              </a:rPr>
              <a:t>Photo: Rhinoceero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Kuva 2" descr=""/>
          <p:cNvPicPr/>
          <p:nvPr/>
        </p:nvPicPr>
        <p:blipFill>
          <a:blip r:embed="rId1"/>
          <a:stretch/>
        </p:blipFill>
        <p:spPr>
          <a:xfrm>
            <a:off x="4683240" y="1279440"/>
            <a:ext cx="4486320" cy="2657520"/>
          </a:xfrm>
          <a:prstGeom prst="rect">
            <a:avLst/>
          </a:prstGeom>
          <a:ln w="0">
            <a:noFill/>
          </a:ln>
        </p:spPr>
      </p:pic>
      <p:pic>
        <p:nvPicPr>
          <p:cNvPr id="169" name="Kuva 6" descr=""/>
          <p:cNvPicPr/>
          <p:nvPr/>
        </p:nvPicPr>
        <p:blipFill>
          <a:blip r:embed="rId2"/>
          <a:stretch/>
        </p:blipFill>
        <p:spPr>
          <a:xfrm>
            <a:off x="204840" y="1325520"/>
            <a:ext cx="3786120" cy="2249640"/>
          </a:xfrm>
          <a:prstGeom prst="rect">
            <a:avLst/>
          </a:prstGeom>
          <a:ln w="0">
            <a:noFill/>
          </a:ln>
        </p:spPr>
      </p:pic>
      <p:pic>
        <p:nvPicPr>
          <p:cNvPr id="170" name="Kuva 7" descr=""/>
          <p:cNvPicPr/>
          <p:nvPr/>
        </p:nvPicPr>
        <p:blipFill>
          <a:blip r:embed="rId3"/>
          <a:stretch/>
        </p:blipFill>
        <p:spPr>
          <a:xfrm>
            <a:off x="372960" y="4414680"/>
            <a:ext cx="3119400" cy="2427480"/>
          </a:xfrm>
          <a:prstGeom prst="rect">
            <a:avLst/>
          </a:prstGeom>
          <a:ln w="0">
            <a:noFill/>
          </a:ln>
        </p:spPr>
      </p:pic>
      <p:pic>
        <p:nvPicPr>
          <p:cNvPr id="171" name="Kuva 12" descr=""/>
          <p:cNvPicPr/>
          <p:nvPr/>
        </p:nvPicPr>
        <p:blipFill>
          <a:blip r:embed="rId4"/>
          <a:stretch/>
        </p:blipFill>
        <p:spPr>
          <a:xfrm>
            <a:off x="5021280" y="4414680"/>
            <a:ext cx="4141800" cy="24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914560" y="23940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Mikä energiarenessanssi?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7640" y="980640"/>
            <a:ext cx="8731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ltaosa 1960–1990 rakennetuista kerrostaloista on peruskorjauksen edessä lähivu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mahdollisuus rakennusten energiatehokkuuden parantamiseen kustannustehokkaa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eruskorjaukset yhden taloyhtiön ja omistajien lähtökohdista omana urakk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ähentää aluekohtaisten synergioiden hyödyntämismahdollisuuk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okonaisvaltaista pitkäjänteistä suunnittelua ei tehdä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aupungin tavoitteet eivät välity suunnitelmi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laajatahojen osaaminen ja motivaatio vaihte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ehkäisee energiatehokkuustoimien toteuttamista urakoi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aloyhtiöt usein isännöitsijän vietävissä (ei-ammattilais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yhteistä tahtotilaa vaikea löytää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energianäkökulma ei pa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sopivaa palvelutarjontaa ei aina löy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lyhytnäköisyys suunnittelussa, 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yödynnetä työvälineit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Kuva 2" descr=""/>
          <p:cNvPicPr/>
          <p:nvPr/>
        </p:nvPicPr>
        <p:blipFill>
          <a:blip r:embed="rId1"/>
          <a:stretch/>
        </p:blipFill>
        <p:spPr>
          <a:xfrm>
            <a:off x="4329000" y="4140360"/>
            <a:ext cx="481500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14560" y="23940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Mikä energiarenessanssi?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7640" y="980640"/>
            <a:ext cx="8731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Helsingin 30 % päästövähennysselvitys: Kaupunki käynnistää peruskorjausten yhteydessä Energiarenessanssia toteuttavan kehitysohjel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tunnistetaan lupaavimmat alueet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energiatehokkuuden parantamis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aktivoidaan alueiden kiinteistöjen omistajia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a asukkaita energiatehokkuuden parantamis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fasilitoidaan aluekohtaisia yhteisperuskorjaushankke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eruskorjaamalla lähiöitä ja kortteleita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yhteisprojekteina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peruskorjausten kokonaiskustannukset alenev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upunki voi toimia yhteishankkeiden riippumattomana ja luotettavana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fasilitaattorina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upunki voi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tukea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peruskorjauksien investointeja esim. omistustonttien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lisärakentamisoikeuksien ja vuokratonttien täydennysrakentamiskorvauksien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avu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aupunki voi kehittää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parhaita konsepteja korjaamiseen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ottaen huomioon rakennusten kokonaisenergiankulutuks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Konseptoimalla korjaamistoimintaa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voidaan varmistaa myös eri suunnittelualojen yhteisty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ian numeron paikkamerkki 5"/>
          <p:cNvSpPr/>
          <p:nvPr/>
        </p:nvSpPr>
        <p:spPr>
          <a:xfrm>
            <a:off x="758880" y="6002280"/>
            <a:ext cx="18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bfbfbf"/>
                </a:solidFill>
                <a:latin typeface="Arial"/>
                <a:ea typeface="Arial"/>
              </a:rPr>
              <a:t>Photo: Rhinoceero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59280" y="21888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1f497d"/>
                </a:solidFill>
                <a:latin typeface="Arial"/>
              </a:rPr>
              <a:t>Miksi energiarenessanssi?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836280"/>
            <a:ext cx="8515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kee Helsingin energia- ja ilmastotavoitteita sekä Smart&amp;Clean tavoitte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Helen Hanasaari sähkö+lämpö pitää korvata jollain 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aljon kustannustehokasta säästöpotentiaalia, merkitys kasvaa aj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aloyhtiöt tarvitsevat tukea pitkäjänteiseen suunnitteluun ja päätöksentek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oidaan yhdistää kestävään aluesuunnitteluun, vähentää korjausvelkaa, parantaa sisäilman olosuhteita ja vähentää asuinalueiden eriytymist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äivämäärän paikkamerkki 3"/>
          <p:cNvSpPr/>
          <p:nvPr/>
        </p:nvSpPr>
        <p:spPr>
          <a:xfrm>
            <a:off x="185724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7.10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latunnisteen paikkamerkki 4"/>
          <p:cNvSpPr/>
          <p:nvPr/>
        </p:nvSpPr>
        <p:spPr>
          <a:xfrm>
            <a:off x="360504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Petteri Huu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Dian numeron paikkamerkki 5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B57E-DC96-4338-9C9E-C1BD15427D94}" type="slidenum">
              <a:rPr b="0" lang="fi-FI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ian numeron paikkamerkki 5"/>
          <p:cNvSpPr/>
          <p:nvPr/>
        </p:nvSpPr>
        <p:spPr>
          <a:xfrm>
            <a:off x="758880" y="6002280"/>
            <a:ext cx="184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bfbfbf"/>
                </a:solidFill>
                <a:latin typeface="Arial"/>
                <a:ea typeface="Arial"/>
              </a:rPr>
              <a:t>Photo: Rhinoceero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Dian numeron paikkamerkki 5"/>
          <p:cNvSpPr/>
          <p:nvPr/>
        </p:nvSpPr>
        <p:spPr>
          <a:xfrm>
            <a:off x="2457360" y="6078600"/>
            <a:ext cx="184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" spc="-1" strike="noStrike">
                <a:solidFill>
                  <a:srgbClr val="ffffff"/>
                </a:solidFill>
                <a:latin typeface="Calibri"/>
                <a:ea typeface="Arial"/>
              </a:rPr>
              <a:t>Photo: Diaidea O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Kuva 2" descr=""/>
          <p:cNvPicPr/>
          <p:nvPr/>
        </p:nvPicPr>
        <p:blipFill>
          <a:blip r:embed="rId1"/>
          <a:stretch/>
        </p:blipFill>
        <p:spPr>
          <a:xfrm>
            <a:off x="217440" y="2852640"/>
            <a:ext cx="5732640" cy="4364280"/>
          </a:xfrm>
          <a:prstGeom prst="rect">
            <a:avLst/>
          </a:prstGeom>
          <a:ln w="0">
            <a:noFill/>
          </a:ln>
        </p:spPr>
      </p:pic>
      <p:pic>
        <p:nvPicPr>
          <p:cNvPr id="192" name="Kuva 6" descr=""/>
          <p:cNvPicPr/>
          <p:nvPr/>
        </p:nvPicPr>
        <p:blipFill>
          <a:blip r:embed="rId2"/>
          <a:stretch/>
        </p:blipFill>
        <p:spPr>
          <a:xfrm>
            <a:off x="5089680" y="2997360"/>
            <a:ext cx="3686040" cy="255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4:03:13Z</dcterms:created>
  <dc:creator>Huuska Petteri</dc:creator>
  <dc:description/>
  <dc:language>en-US</dc:language>
  <cp:lastModifiedBy>Huuska Petteri</cp:lastModifiedBy>
  <dcterms:modified xsi:type="dcterms:W3CDTF">2016-09-29T20:27:43Z</dcterms:modified>
  <cp:revision>96</cp:revision>
  <dc:subject/>
  <dc:title>PKS ja Helsingin ilmastotyö sekä Helen kehitysohjel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85FC14AC82B2847A9589F5EEDE5A60D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